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79F-7928-4CEB-B264-C471D36E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F23-FCDF-4689-881D-F8482888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5D7-450D-412F-9214-4A930409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2F4-F21C-453F-B9BA-62F241AA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036-CBE2-4CFB-A035-8F02916C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D76-9FF4-45E9-8135-5850F699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073-D3F9-481B-9534-DFF7F89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690-E357-4D2B-85AF-EB35A0E9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130-7035-4BD0-A678-81021734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250-AB2B-4E03-AFAA-98205C8D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FB5-9258-4FA1-A5A6-D9C63384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481-6BD4-46C6-B0D7-2F58016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C916-CFF8-428E-9DC9-CF6FF8A5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7086600" cy="6324480"/>
          </a:xfrm>
          <a:prstGeom prst="flowChart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6095880"/>
            <a:ext cx="0" cy="12648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467480" y="3429000"/>
            <a:ext cx="16611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914400" y="0"/>
            <a:ext cx="685800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914400" y="0"/>
            <a:ext cx="6781680" cy="678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1219320"/>
            <a:ext cx="9677520" cy="3975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895480" y="0"/>
            <a:ext cx="289584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0" y="1709640"/>
            <a:ext cx="9144000" cy="3619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55960" y="0"/>
            <a:ext cx="277488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4200">
            <a:off x="5257440" y="358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ots ini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733600">
            <a:off x="5867640" y="266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an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110400">
            <a:off x="4306320" y="1180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mots- val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207000">
            <a:off x="4608720" y="5218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e-has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90400">
            <a:off x="5333400" y="457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1434200">
            <a:off x="685440" y="274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haî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213200">
            <a:off x="380520" y="380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405800">
            <a:off x="2128680" y="50288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4247000">
            <a:off x="2267640" y="12348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815800">
            <a:off x="1065960" y="456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yram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3200">
            <a:off x="1143360" y="2054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6177600">
            <a:off x="2683080" y="5007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5710400">
            <a:off x="2820600" y="114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875600">
            <a:off x="3643920" y="5114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550400">
            <a:off x="3430440" y="1216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noms pro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80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84280" cy="171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4876920"/>
            <a:ext cx="129852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1633680" cy="173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1255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46:40Z</dcterms:created>
  <dc:creator>Marianne NEY</dc:creator>
  <dc:description/>
  <dc:language>en-US</dc:language>
  <cp:lastModifiedBy>Marianne NEY</cp:lastModifiedBy>
  <cp:lastPrinted>2002-01-04T16:53:17Z</cp:lastPrinted>
  <dcterms:modified xsi:type="dcterms:W3CDTF">2002-01-04T17:04:43Z</dcterms:modified>
  <cp:revision>7</cp:revision>
  <dc:subject/>
  <dc:title>Aucun titre de diapositive</dc:title>
</cp:coreProperties>
</file>