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72AB-E120-4026-A18A-9FA9D0FA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784-2D6E-449F-BF01-9B889B4B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0A34-D9E5-4CB5-A292-89CF8008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350-3AA8-4066-B3FC-3B655D89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3EE6-A299-4492-AFF1-3A836878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46B-B9CE-4002-BC01-9C8234B6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918A-976C-4771-AFBA-E4A301CC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4EE0-889E-47A0-A800-DE6ACE26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84C-B4E5-40F2-972C-65DFE81D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93D9-2A51-4C3A-A0B3-99799421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83B1-593C-4C3F-BF77-FC62C6E5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C61-6256-48F8-B172-55FC3FF4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09DD-6EBC-42E7-8B59-D512AB96C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228600"/>
            <a:ext cx="7086600" cy="6324480"/>
          </a:xfrm>
          <a:prstGeom prst="flowChartConnector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-6095880"/>
            <a:ext cx="0" cy="12648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7467480" y="3429000"/>
            <a:ext cx="16611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914400" y="0"/>
            <a:ext cx="6858000" cy="6858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914400" y="0"/>
            <a:ext cx="6781680" cy="678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0" y="1219320"/>
            <a:ext cx="9677520" cy="3975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2895480" y="0"/>
            <a:ext cx="2895840" cy="6858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0" y="1709640"/>
            <a:ext cx="9144000" cy="3619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955960" y="0"/>
            <a:ext cx="2774880" cy="6858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4200">
            <a:off x="5257440" y="3580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mots init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20733600">
            <a:off x="5867640" y="2666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pan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382400">
            <a:off x="5105880" y="1752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ase-mo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8110400">
            <a:off x="4306320" y="11804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 mots- val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3207000">
            <a:off x="4608720" y="5218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e-has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790400">
            <a:off x="5333400" y="45716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a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1434200">
            <a:off x="685440" y="2740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haî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0213200">
            <a:off x="380520" y="3807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s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9382400">
            <a:off x="5105880" y="1752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ase-mo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7405800">
            <a:off x="2128680" y="502884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ase-mo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4247000">
            <a:off x="2267640" y="12348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a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8815800">
            <a:off x="1065960" y="4569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yram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2643200">
            <a:off x="1143360" y="2054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ot le plu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6177600">
            <a:off x="2683080" y="50076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ot le plu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5710400">
            <a:off x="2820600" y="1141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crois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4875600">
            <a:off x="3643920" y="511452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crois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550400">
            <a:off x="3430440" y="1216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noms prop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38088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484280" cy="1719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315200" y="4876920"/>
            <a:ext cx="1298520" cy="1600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28600" y="4800600"/>
            <a:ext cx="1633680" cy="1733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12556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21:46:40Z</dcterms:created>
  <dc:creator>Marianne NEY</dc:creator>
  <dc:description/>
  <dc:language>en-US</dc:language>
  <cp:lastModifiedBy>Marianne NEY</cp:lastModifiedBy>
  <cp:lastPrinted>2002-01-04T16:53:17Z</cp:lastPrinted>
  <dcterms:modified xsi:type="dcterms:W3CDTF">2002-01-04T17:04:43Z</dcterms:modified>
  <cp:revision>7</cp:revision>
  <dc:subject/>
  <dc:title>Aucun titre de diapositive</dc:title>
</cp:coreProperties>
</file>