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55B-0781-4B0D-9FBD-CA6E6DD8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8CF-B77E-4D67-98CD-25BB741D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ED4-19B6-41B5-A306-133C13CF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415-111D-491F-8A60-306BEF85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439-1813-4630-8EE9-BAC38769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D6A-9430-4517-A73E-7FB2026A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B16-1F0A-4639-AB40-F5D55A56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94C-A5A2-46AE-9788-3A3056F4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CBF-16F9-4650-AA21-7600F044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3D9-7B54-40F9-BA38-BD556B43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7B9-6F87-4A08-A3AC-3A1A519C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392-A68C-4CB3-9893-D3DAC56D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FF88-0215-462F-BEAD-A0967CB7D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5280" y="765000"/>
            <a:ext cx="7993080" cy="4092840"/>
            <a:chOff x="395280" y="765000"/>
            <a:chExt cx="7993080" cy="4092840"/>
          </a:xfrm>
        </p:grpSpPr>
        <p:sp>
          <p:nvSpPr>
            <p:cNvPr id="42" name=""/>
            <p:cNvSpPr/>
            <p:nvPr/>
          </p:nvSpPr>
          <p:spPr>
            <a:xfrm>
              <a:off x="395280" y="1052640"/>
              <a:ext cx="79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0360" y="1773360"/>
              <a:ext cx="136692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308720" y="1773360"/>
              <a:ext cx="100836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48360" y="2492280"/>
              <a:ext cx="792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5280" y="1773360"/>
              <a:ext cx="554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5280" y="2492280"/>
              <a:ext cx="474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5280" y="3213000"/>
              <a:ext cx="36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95640" y="3213000"/>
              <a:ext cx="1152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5280" y="3933720"/>
              <a:ext cx="360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12000" y="1125360"/>
              <a:ext cx="122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tis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o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tr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36000" y="1484280"/>
              <a:ext cx="11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Assur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8360" y="1484280"/>
              <a:ext cx="53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employé (brut ONS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8360" y="2205000"/>
              <a:ext cx="460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impos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8360" y="2924280"/>
              <a:ext cx="34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8360" y="3645000"/>
              <a:ext cx="345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n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41720" y="1835280"/>
              <a:ext cx="122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tis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o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ersonnel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8640" y="2746440"/>
              <a:ext cx="122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récomp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rofession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8360" y="765000"/>
              <a:ext cx="777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Salaire brut employeur (salaire coû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7640" y="263700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ON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6000" y="2133720"/>
              <a:ext cx="115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Compagnies d’assur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88000" y="177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40720" y="1773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80000" y="278136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80000" y="2492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67440" y="33400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Fis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4909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6680" y="32148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28600" y="4359240"/>
              <a:ext cx="792360" cy="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6000" y="4724280"/>
              <a:ext cx="792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8000" y="4221000"/>
              <a:ext cx="180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yé par l’employ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08000" y="4581360"/>
              <a:ext cx="410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000000"/>
                  </a:solidFill>
                  <a:latin typeface="Arial"/>
                </a:rPr>
                <a:t>Payé par l’employé par l’intermédiaire de l’employeu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-2943360" y="2771640"/>
            <a:ext cx="645984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2941560" y="68220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9:31:02Z</dcterms:created>
  <dc:creator>Cools</dc:creator>
  <dc:description/>
  <dc:language>en-US</dc:language>
  <cp:lastModifiedBy>Cools</cp:lastModifiedBy>
  <dcterms:modified xsi:type="dcterms:W3CDTF">2004-10-13T13:03:43Z</dcterms:modified>
  <cp:revision>3</cp:revision>
  <dc:subject/>
  <dc:title>Diapositive 1</dc:title>
</cp:coreProperties>
</file>