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493-C1C9-42FA-881A-0A7AEC59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7C2-36BA-4DD2-9811-1F02C1F1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460-B179-4AB1-8E0D-B95E2341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968-E54E-4BB1-908A-17F2EA99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5D5-7D69-4254-A54D-E53FE812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04B-B9FA-4D45-85CA-144337E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863-2D38-4E9C-A583-DE0510E6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5EE-7A17-4987-8A13-47C38337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37C-6366-4A9C-8542-DD31E794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764-3142-4954-BC2B-81FE44E3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5E7-9A4E-4D46-B341-9657789A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835-2B23-4052-AF8D-BD5B0AE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1B1C-6260-4F62-82DE-28756EB18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765000"/>
            <a:ext cx="7993080" cy="4092840"/>
            <a:chOff x="395280" y="765000"/>
            <a:chExt cx="7993080" cy="4092840"/>
          </a:xfrm>
        </p:grpSpPr>
        <p:sp>
          <p:nvSpPr>
            <p:cNvPr id="42" name=""/>
            <p:cNvSpPr/>
            <p:nvPr/>
          </p:nvSpPr>
          <p:spPr>
            <a:xfrm>
              <a:off x="395280" y="1052640"/>
              <a:ext cx="79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0360" y="1773360"/>
              <a:ext cx="136692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308720" y="1773360"/>
              <a:ext cx="100836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48360" y="2492280"/>
              <a:ext cx="792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5280" y="1773360"/>
              <a:ext cx="55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2492280"/>
              <a:ext cx="474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5280" y="3213000"/>
              <a:ext cx="36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95640" y="3213000"/>
              <a:ext cx="1152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5280" y="3933720"/>
              <a:ext cx="36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12000" y="1125360"/>
              <a:ext cx="122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tis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o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tr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36000" y="1484280"/>
              <a:ext cx="11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Assur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8360" y="1484280"/>
              <a:ext cx="53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employé (brut ONS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360" y="2205000"/>
              <a:ext cx="46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impos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8360" y="2924280"/>
              <a:ext cx="34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8360" y="3645000"/>
              <a:ext cx="34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41720" y="1835280"/>
              <a:ext cx="122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tis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o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ersonnel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8640" y="2746440"/>
              <a:ext cx="122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récomp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rofessio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8360" y="765000"/>
              <a:ext cx="777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employeur (salaire coû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7640" y="26370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ON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6000" y="2133720"/>
              <a:ext cx="115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mpagnies d’assur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88000" y="17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40720" y="1773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80000" y="2781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2492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7440" y="33400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Fi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909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6680" y="32148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28600" y="4359240"/>
              <a:ext cx="79236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6000" y="4724280"/>
              <a:ext cx="792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00" y="4221000"/>
              <a:ext cx="180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yé par l’employ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8000" y="4581360"/>
              <a:ext cx="410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yé par l’employé par l’intermédiaire de l’employ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-2943360" y="2771640"/>
            <a:ext cx="6459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941560" y="68220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9:31:02Z</dcterms:created>
  <dc:creator>Cools</dc:creator>
  <dc:description/>
  <dc:language>en-US</dc:language>
  <cp:lastModifiedBy>Cools</cp:lastModifiedBy>
  <dcterms:modified xsi:type="dcterms:W3CDTF">2004-10-13T13:03:43Z</dcterms:modified>
  <cp:revision>3</cp:revision>
  <dc:subject/>
  <dc:title>Diapositive 1</dc:title>
</cp:coreProperties>
</file>