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APPPHOTO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F754-D6B2-47C0-BF39-CF53EE12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9C70-A104-473B-BC02-D6190A66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5D7-9B3B-42D5-AB17-E6D55781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0E8-2D84-4056-8403-DDC4EA71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DDF0-C830-41C9-92C7-6E2E4656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A5BE-73BF-4982-AE28-FAAE7116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2BFE-536E-4269-A4C5-AB8FC93B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FBA7-0CCE-4D8D-9C6D-EEF2CCFE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18D1-F120-4A89-8A5F-3AEEB617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1FBB-1F7E-45C7-8AB1-AC91C20D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19A1-835E-4807-BE78-70FC012A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B82-4C60-40B1-A244-C61320FF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4F3C-9236-46F3-8795-D1422E29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D014-ECE9-4ED8-A53F-B92A1AA2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0C20-A0AC-4F26-BE48-F930163A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A699-6290-4AA0-8BDA-78AAF608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E160-EB6F-4AB6-B166-C9346A0D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6E5A-52C6-49C8-8824-5D8098E7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05CF-864F-4B37-AE3A-D89F0659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A63-BD02-4378-B1A5-F8B7F880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827-9EF6-425F-B7C8-A242D875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0AD-7B07-4136-877B-5942CED6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82B0-EBDC-4DBD-B685-97DDE3AA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2320-D930-45B9-866C-0A01C2F2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2C47-59FF-4FA1-99B3-8607F2515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BD2D-0EDD-4710-9CB1-220E3BA14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PHOTO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audio" Target="../media/APPPHOTO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PHOTO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APPPHOTO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Intégrale définie</a:t>
            </a:r>
            <a:br>
              <a:rPr sz="5400"/>
            </a:b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d ’une fonction continu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oux J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endshow"/>
          </p:cNvPr>
          <p:cNvSpPr/>
          <p:nvPr/>
        </p:nvSpPr>
        <p:spPr>
          <a:xfrm>
            <a:off x="609480" y="380880"/>
            <a:ext cx="2210040" cy="914400"/>
          </a:xfrm>
          <a:custGeom>
            <a:avLst/>
            <a:gdLst>
              <a:gd name="textAreaLeft" fmla="*/ 59040 w 2210040"/>
              <a:gd name="textAreaRight" fmla="*/ 2151000 w 2210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2194" h="21600">
                <a:moveTo>
                  <a:pt x="0" y="0"/>
                </a:moveTo>
                <a:lnTo>
                  <a:pt x="52194" y="0"/>
                </a:lnTo>
                <a:lnTo>
                  <a:pt x="52194" y="21600"/>
                </a:lnTo>
                <a:lnTo>
                  <a:pt x="0" y="21600"/>
                </a:lnTo>
                <a:close/>
              </a:path>
              <a:path fill="lightenLess" w="52194" h="21600">
                <a:moveTo>
                  <a:pt x="0" y="0"/>
                </a:moveTo>
                <a:lnTo>
                  <a:pt x="52194" y="0"/>
                </a:lnTo>
                <a:lnTo>
                  <a:pt x="50794" y="1400"/>
                </a:lnTo>
                <a:lnTo>
                  <a:pt x="1400" y="1400"/>
                </a:lnTo>
                <a:close/>
              </a:path>
              <a:path fill="darken" w="52194" h="21600">
                <a:moveTo>
                  <a:pt x="52194" y="0"/>
                </a:moveTo>
                <a:lnTo>
                  <a:pt x="52194" y="21600"/>
                </a:lnTo>
                <a:lnTo>
                  <a:pt x="50794" y="20200"/>
                </a:lnTo>
                <a:lnTo>
                  <a:pt x="50794" y="1400"/>
                </a:lnTo>
                <a:close/>
              </a:path>
              <a:path fill="darkenLess" w="52194" h="21600">
                <a:moveTo>
                  <a:pt x="52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94" y="20200"/>
                </a:lnTo>
                <a:close/>
              </a:path>
              <a:path fill="lighten" w="52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777240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APPPHOT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aire du premier rectangle est 0.5f(0.25) = 0.234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aire du second est 0.5f(0.75) = 0.609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e du troisième vaut 0.5f(1.25) = 0.859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quatrième a pour aire:0.5f(1.75) = 0.9843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ur somme est donc 2.68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CI6" descr=""/>
          <p:cNvPicPr/>
          <p:nvPr/>
        </p:nvPicPr>
        <p:blipFill>
          <a:blip r:embed="rId2"/>
          <a:stretch/>
        </p:blipFill>
        <p:spPr>
          <a:xfrm>
            <a:off x="4800600" y="2405160"/>
            <a:ext cx="3809880" cy="2809800"/>
          </a:xfrm>
          <a:prstGeom prst="rect">
            <a:avLst/>
          </a:prstGeom>
          <a:ln w="0">
            <a:noFill/>
          </a:ln>
        </p:spPr>
      </p:pic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endshow"/>
          </p:cNvPr>
          <p:cNvSpPr/>
          <p:nvPr/>
        </p:nvSpPr>
        <p:spPr>
          <a:xfrm>
            <a:off x="5486400" y="556272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ons les trois méthod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77760" y="1828800"/>
          <a:ext cx="7543800" cy="4578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7760" y="1828800"/>
                    <a:ext cx="7543800" cy="45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7315200" y="1792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8077320" y="1792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endshow"/>
          </p:cNvPr>
          <p:cNvSpPr/>
          <p:nvPr/>
        </p:nvSpPr>
        <p:spPr>
          <a:xfrm>
            <a:off x="5943600" y="60199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4" name="APPPHOTO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Times New Roman"/>
              </a:rPr>
              <a:t>Généralisat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1905120"/>
            <a:ext cx="7924680" cy="38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idérons une fonction f continue sur l ’intervalle [a,b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ageons l ’intervalle [a,b] en n intervalles partiels consécutifs de longueu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i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la borne inférieure de f sur le i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èm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valle (càd la plus petite valeur de f(x)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it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la borne supérieure de f sur le i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èm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valle (càd la plus grande valeur de f(x)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idér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la somme s des aires des rectangles de bas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t de hauteur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la somme S des aires des rectangles de bas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t de hauteur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peut démontrer que, lorsque n tend  vers l ’infini, de telle manière qu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nd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s zéro , les limites de s et de S existent et sont égales. Cette limite commune est alors appelée « intégrale définie de a à b de la fonction  f » et est l ’aire de la surface plane comprise entre la courbe: y=f(x), l ’axe OX et les droites:x=a et x=b. On 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 rot="10800000">
                <a:off x="1371600" y="5486400"/>
                <a:ext cx="64771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nary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endshow"/>
          </p:cNvPr>
          <p:cNvSpPr/>
          <p:nvPr/>
        </p:nvSpPr>
        <p:spPr>
          <a:xfrm>
            <a:off x="914400" y="45720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APPPHOTO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ise en situ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demande d ’estimer l ’aire de la surface plane (hachurée) limitée par l ’arc de la parabole               P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y = -0.5x² + 2x sur [0,2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CI1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054320" cy="299880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7010280" y="380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777240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endshow"/>
          </p:cNvPr>
          <p:cNvSpPr/>
          <p:nvPr/>
        </p:nvSpPr>
        <p:spPr>
          <a:xfrm>
            <a:off x="5562720" y="5410080"/>
            <a:ext cx="1523880" cy="60984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3955" h="21600">
                <a:moveTo>
                  <a:pt x="0" y="0"/>
                </a:moveTo>
                <a:lnTo>
                  <a:pt x="53955" y="0"/>
                </a:lnTo>
                <a:lnTo>
                  <a:pt x="53955" y="21600"/>
                </a:lnTo>
                <a:lnTo>
                  <a:pt x="0" y="21600"/>
                </a:lnTo>
                <a:close/>
              </a:path>
              <a:path fill="lightenLess" w="53955" h="21600">
                <a:moveTo>
                  <a:pt x="0" y="0"/>
                </a:moveTo>
                <a:lnTo>
                  <a:pt x="53955" y="0"/>
                </a:lnTo>
                <a:lnTo>
                  <a:pt x="52555" y="1400"/>
                </a:lnTo>
                <a:lnTo>
                  <a:pt x="1400" y="1400"/>
                </a:lnTo>
                <a:close/>
              </a:path>
              <a:path fill="darken" w="53955" h="21600">
                <a:moveTo>
                  <a:pt x="53955" y="0"/>
                </a:moveTo>
                <a:lnTo>
                  <a:pt x="53955" y="21600"/>
                </a:lnTo>
                <a:lnTo>
                  <a:pt x="52555" y="20200"/>
                </a:lnTo>
                <a:lnTo>
                  <a:pt x="52555" y="1400"/>
                </a:lnTo>
                <a:close/>
              </a:path>
              <a:path fill="darkenLess" w="53955" h="21600">
                <a:moveTo>
                  <a:pt x="53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55" y="20200"/>
                </a:lnTo>
                <a:close/>
              </a:path>
              <a:path fill="lighten" w="53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mière métho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partage [0,2] en 4 intervalles de longueur 0.5 et on construit les rectangles hachuré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omme des aires de ces rectangles est une approximation par défaut de l ’aire cherché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CI2" descr=""/>
          <p:cNvPicPr/>
          <p:nvPr/>
        </p:nvPicPr>
        <p:blipFill>
          <a:blip r:embed="rId2"/>
          <a:stretch/>
        </p:blipFill>
        <p:spPr>
          <a:xfrm>
            <a:off x="4800600" y="2405160"/>
            <a:ext cx="3809880" cy="280980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7010280" y="380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77240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endshow"/>
          </p:cNvPr>
          <p:cNvSpPr/>
          <p:nvPr/>
        </p:nvSpPr>
        <p:spPr>
          <a:xfrm>
            <a:off x="5486400" y="5410080"/>
            <a:ext cx="1523880" cy="60984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3955" h="21600">
                <a:moveTo>
                  <a:pt x="0" y="0"/>
                </a:moveTo>
                <a:lnTo>
                  <a:pt x="53955" y="0"/>
                </a:lnTo>
                <a:lnTo>
                  <a:pt x="53955" y="21600"/>
                </a:lnTo>
                <a:lnTo>
                  <a:pt x="0" y="21600"/>
                </a:lnTo>
                <a:close/>
              </a:path>
              <a:path fill="lightenLess" w="53955" h="21600">
                <a:moveTo>
                  <a:pt x="0" y="0"/>
                </a:moveTo>
                <a:lnTo>
                  <a:pt x="53955" y="0"/>
                </a:lnTo>
                <a:lnTo>
                  <a:pt x="52555" y="1400"/>
                </a:lnTo>
                <a:lnTo>
                  <a:pt x="1400" y="1400"/>
                </a:lnTo>
                <a:close/>
              </a:path>
              <a:path fill="darken" w="53955" h="21600">
                <a:moveTo>
                  <a:pt x="53955" y="0"/>
                </a:moveTo>
                <a:lnTo>
                  <a:pt x="53955" y="21600"/>
                </a:lnTo>
                <a:lnTo>
                  <a:pt x="52555" y="20200"/>
                </a:lnTo>
                <a:lnTo>
                  <a:pt x="52555" y="1400"/>
                </a:lnTo>
                <a:close/>
              </a:path>
              <a:path fill="darkenLess" w="53955" h="21600">
                <a:moveTo>
                  <a:pt x="53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55" y="20200"/>
                </a:lnTo>
                <a:close/>
              </a:path>
              <a:path fill="lighten" w="53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200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aire du premier rectangle est 0.5f(0.5) = 0.4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aire du second est 0.5f(1) = 0.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e du troisième vaut 0.5f(1.5) = 0.9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ur somme est donc 2.1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CI2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065480" cy="299880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7010280" y="380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777240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endshow"/>
          </p:cNvPr>
          <p:cNvSpPr/>
          <p:nvPr/>
        </p:nvSpPr>
        <p:spPr>
          <a:xfrm>
            <a:off x="5638680" y="5486400"/>
            <a:ext cx="1524240" cy="609480"/>
          </a:xfrm>
          <a:custGeom>
            <a:avLst/>
            <a:gdLst>
              <a:gd name="textAreaLeft" fmla="*/ 39240 w 1524240"/>
              <a:gd name="textAreaRight" fmla="*/ 1485000 w 15242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4000" h="21600">
                <a:moveTo>
                  <a:pt x="0" y="0"/>
                </a:moveTo>
                <a:lnTo>
                  <a:pt x="54000" y="0"/>
                </a:lnTo>
                <a:lnTo>
                  <a:pt x="54000" y="21600"/>
                </a:lnTo>
                <a:lnTo>
                  <a:pt x="0" y="21600"/>
                </a:lnTo>
                <a:close/>
              </a:path>
              <a:path fill="lightenLess" w="54000" h="21600">
                <a:moveTo>
                  <a:pt x="0" y="0"/>
                </a:moveTo>
                <a:lnTo>
                  <a:pt x="54000" y="0"/>
                </a:lnTo>
                <a:lnTo>
                  <a:pt x="52600" y="1400"/>
                </a:lnTo>
                <a:lnTo>
                  <a:pt x="1400" y="1400"/>
                </a:lnTo>
                <a:close/>
              </a:path>
              <a:path fill="darken" w="54000" h="21600">
                <a:moveTo>
                  <a:pt x="54000" y="0"/>
                </a:moveTo>
                <a:lnTo>
                  <a:pt x="54000" y="21600"/>
                </a:lnTo>
                <a:lnTo>
                  <a:pt x="52600" y="20200"/>
                </a:lnTo>
                <a:lnTo>
                  <a:pt x="52600" y="1400"/>
                </a:lnTo>
                <a:close/>
              </a:path>
              <a:path fill="darkenLess" w="54000" h="21600">
                <a:moveTo>
                  <a:pt x="54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00" y="20200"/>
                </a:lnTo>
                <a:close/>
              </a:path>
              <a:path fill="lighten" w="54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élioration de la précis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partageant [0,2] en 8 intervalles de longueur 0.25 ,on obtient une meilleure estimation de l ’aire cherché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rouve ainsi que la somme des aires des 7 rectangles vaut 2.4062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CI4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065480" cy="2998800"/>
          </a:xfrm>
          <a:prstGeom prst="rect">
            <a:avLst/>
          </a:prstGeom>
          <a:ln w="0">
            <a:noFill/>
          </a:ln>
        </p:spPr>
      </p:pic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endshow"/>
          </p:cNvPr>
          <p:cNvSpPr/>
          <p:nvPr/>
        </p:nvSpPr>
        <p:spPr>
          <a:xfrm>
            <a:off x="5486400" y="556272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uxième métho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peut obtenir une approximation par excès de la surface cherchée en construisant les rectangles de la façon suiv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CI3" descr=""/>
          <p:cNvPicPr/>
          <p:nvPr/>
        </p:nvPicPr>
        <p:blipFill>
          <a:blip r:embed="rId2"/>
          <a:stretch/>
        </p:blipFill>
        <p:spPr>
          <a:xfrm>
            <a:off x="4800600" y="2405160"/>
            <a:ext cx="3809880" cy="280980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endshow"/>
          </p:cNvPr>
          <p:cNvSpPr/>
          <p:nvPr/>
        </p:nvSpPr>
        <p:spPr>
          <a:xfrm>
            <a:off x="5486400" y="556272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aire du premier rectangle est 0.5f(0.5) = 0.4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aire du second est 0.5f(1) = 0.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e du troisième vaut 0.5f(1.5) = 0.9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quatrième a pour aire:0.5f(2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ur somme est donc 3.1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CI3" descr=""/>
          <p:cNvPicPr/>
          <p:nvPr/>
        </p:nvPicPr>
        <p:blipFill>
          <a:blip r:embed="rId2"/>
          <a:stretch/>
        </p:blipFill>
        <p:spPr>
          <a:xfrm>
            <a:off x="4800600" y="2405160"/>
            <a:ext cx="3809880" cy="280980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endshow"/>
          </p:cNvPr>
          <p:cNvSpPr/>
          <p:nvPr/>
        </p:nvSpPr>
        <p:spPr>
          <a:xfrm>
            <a:off x="5486400" y="556272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éliorons la précis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CI5" descr=""/>
          <p:cNvPicPr/>
          <p:nvPr/>
        </p:nvPicPr>
        <p:blipFill>
          <a:blip r:embed="rId2"/>
          <a:stretch/>
        </p:blipFill>
        <p:spPr>
          <a:xfrm>
            <a:off x="4800600" y="2405160"/>
            <a:ext cx="3809880" cy="28098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partageant [0,2] en 8 intervalles de longueur 0.25 ,on obtient une meilleure estimation de l ’aire cherché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rouve ainsi que la somme des aires des 8 rectangles vaut 2.9062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endshow"/>
          </p:cNvPr>
          <p:cNvSpPr/>
          <p:nvPr/>
        </p:nvSpPr>
        <p:spPr>
          <a:xfrm>
            <a:off x="5486400" y="556272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oisième métho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peut aussi construire des rectangles de longueur 0.5 et de hauteur f ( c ) où c est le milieu de chaque intervalle partageant [0,2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CI6" descr=""/>
          <p:cNvPicPr/>
          <p:nvPr/>
        </p:nvPicPr>
        <p:blipFill>
          <a:blip r:embed="rId2"/>
          <a:stretch/>
        </p:blipFill>
        <p:spPr>
          <a:xfrm>
            <a:off x="4800600" y="2405160"/>
            <a:ext cx="3809880" cy="280980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7391520" y="380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8153280" y="380880"/>
            <a:ext cx="650880" cy="457200"/>
          </a:xfrm>
          <a:custGeom>
            <a:avLst/>
            <a:gdLst>
              <a:gd name="textAreaLeft" fmla="*/ 29520 w 650880"/>
              <a:gd name="textAreaRight" fmla="*/ 621360 w 650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743" h="21600">
                <a:moveTo>
                  <a:pt x="0" y="0"/>
                </a:moveTo>
                <a:lnTo>
                  <a:pt x="30743" y="0"/>
                </a:lnTo>
                <a:lnTo>
                  <a:pt x="30743" y="21600"/>
                </a:lnTo>
                <a:lnTo>
                  <a:pt x="0" y="21600"/>
                </a:lnTo>
                <a:close/>
              </a:path>
              <a:path fill="lightenLess" w="30743" h="21600">
                <a:moveTo>
                  <a:pt x="0" y="0"/>
                </a:moveTo>
                <a:lnTo>
                  <a:pt x="30743" y="0"/>
                </a:lnTo>
                <a:lnTo>
                  <a:pt x="29343" y="1400"/>
                </a:lnTo>
                <a:lnTo>
                  <a:pt x="1400" y="1400"/>
                </a:lnTo>
                <a:close/>
              </a:path>
              <a:path fill="darken" w="30743" h="21600">
                <a:moveTo>
                  <a:pt x="30743" y="0"/>
                </a:moveTo>
                <a:lnTo>
                  <a:pt x="30743" y="21600"/>
                </a:lnTo>
                <a:lnTo>
                  <a:pt x="29343" y="20200"/>
                </a:lnTo>
                <a:lnTo>
                  <a:pt x="29343" y="1400"/>
                </a:lnTo>
                <a:close/>
              </a:path>
              <a:path fill="darkenLess" w="30743" h="21600">
                <a:moveTo>
                  <a:pt x="3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3" y="20200"/>
                </a:lnTo>
                <a:close/>
              </a:path>
              <a:path fill="lighten" w="3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3" h="21600">
                <a:moveTo>
                  <a:pt x="8365" y="3794"/>
                </a:moveTo>
                <a:lnTo>
                  <a:pt x="22378" y="10800"/>
                </a:lnTo>
                <a:lnTo>
                  <a:pt x="8365" y="17806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endshow"/>
          </p:cNvPr>
          <p:cNvSpPr/>
          <p:nvPr/>
        </p:nvSpPr>
        <p:spPr>
          <a:xfrm>
            <a:off x="5486400" y="556272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PPHOTO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0T14:20:12Z</dcterms:created>
  <dc:creator>Waroux Jean</dc:creator>
  <dc:description/>
  <dc:language>en-US</dc:language>
  <cp:lastModifiedBy>Waroux Jean</cp:lastModifiedBy>
  <dcterms:modified xsi:type="dcterms:W3CDTF">1998-04-26T06:29:34Z</dcterms:modified>
  <cp:revision>23</cp:revision>
  <dc:subject/>
  <dc:title>Intégrale définie d ’une fonction continue.</dc:title>
</cp:coreProperties>
</file>