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APPPHOTO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28E-891C-485F-9204-D108916E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CC2-04D6-465E-96F9-53273516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023-55F4-41C5-BDF2-F19356E9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706-DD20-4AFE-A95B-99355AEE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50CF-7516-449A-9F2C-BC90B429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3C4A-6893-46F3-8CA9-67CAB4AB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4351-3493-42F7-9BAC-FF42ADE8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CB05-845E-4F2C-AB7F-6A2206E9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F5BA-35C1-461A-A535-C8F6B4AA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398E-413B-4F41-B034-AF726AA5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6D7D-3CC4-4D8B-95EC-274384A9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5CF-AA61-4323-BDE8-C04278E5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3B00-0BE7-4512-A768-450931BC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B801-FFFD-40F6-B0E5-DDDEB3CB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E1E0-7CFE-405C-AD44-DA289590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9E8E-D407-4532-A4E4-D89C96CD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171D-4558-4CCC-B921-1D297B78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15F-4568-4DE2-8AB9-F741B325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FAC-11F8-46E9-99EF-0FE3A5A1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5CF-C157-4E5F-91C9-5DF77069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D85-BA4A-4CDF-A3E7-CB1D203F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909-1B4E-47A1-9C0E-D552C53A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C8D-E616-484D-8F72-EDD0D26B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CCE-6D30-4AB4-AD84-118FD5E2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FE7C-EE56-417E-AAD2-B1CCB9D1F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D09C-829B-4BA8-B710-B4483C2E8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audio" Target="../media/APPPHOTO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Intégrale définie</a:t>
            </a:r>
            <a:br>
              <a:rPr sz="5400"/>
            </a:b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 ’une fonction continu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oux J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endshow"/>
          </p:cNvPr>
          <p:cNvSpPr/>
          <p:nvPr/>
        </p:nvSpPr>
        <p:spPr>
          <a:xfrm>
            <a:off x="609480" y="380880"/>
            <a:ext cx="2210040" cy="914400"/>
          </a:xfrm>
          <a:custGeom>
            <a:avLst/>
            <a:gdLst>
              <a:gd name="textAreaLeft" fmla="*/ 59040 w 2210040"/>
              <a:gd name="textAreaRight" fmla="*/ 2151000 w 2210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2194" h="21600">
                <a:moveTo>
                  <a:pt x="0" y="0"/>
                </a:moveTo>
                <a:lnTo>
                  <a:pt x="52194" y="0"/>
                </a:lnTo>
                <a:lnTo>
                  <a:pt x="52194" y="21600"/>
                </a:lnTo>
                <a:lnTo>
                  <a:pt x="0" y="21600"/>
                </a:lnTo>
                <a:close/>
              </a:path>
              <a:path fill="lightenLess" w="52194" h="21600">
                <a:moveTo>
                  <a:pt x="0" y="0"/>
                </a:moveTo>
                <a:lnTo>
                  <a:pt x="52194" y="0"/>
                </a:lnTo>
                <a:lnTo>
                  <a:pt x="50794" y="1400"/>
                </a:lnTo>
                <a:lnTo>
                  <a:pt x="1400" y="1400"/>
                </a:lnTo>
                <a:close/>
              </a:path>
              <a:path fill="darken" w="52194" h="21600">
                <a:moveTo>
                  <a:pt x="52194" y="0"/>
                </a:moveTo>
                <a:lnTo>
                  <a:pt x="52194" y="21600"/>
                </a:lnTo>
                <a:lnTo>
                  <a:pt x="50794" y="20200"/>
                </a:lnTo>
                <a:lnTo>
                  <a:pt x="50794" y="1400"/>
                </a:lnTo>
                <a:close/>
              </a:path>
              <a:path fill="darkenLess" w="52194" h="21600">
                <a:moveTo>
                  <a:pt x="52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94" y="20200"/>
                </a:lnTo>
                <a:close/>
              </a:path>
              <a:path fill="lighten" w="52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PPHOT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premier rectangle est 0.5f(0.25) = 0.234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second est 0.5f(0.75) = 0.60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e du troisième vaut 0.5f(1.25) = 0.85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quatrième a pour aire:0.5f(1.75) = 0.984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ur somme est donc 2.68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CI6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ons les trois métho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77760" y="1828800"/>
          <a:ext cx="7543800" cy="4578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7760" y="1828800"/>
                    <a:ext cx="754380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7315200" y="1792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077320" y="1792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endshow"/>
          </p:cNvPr>
          <p:cNvSpPr/>
          <p:nvPr/>
        </p:nvSpPr>
        <p:spPr>
          <a:xfrm>
            <a:off x="5943600" y="60199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APPPHOTO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sa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905120"/>
            <a:ext cx="792468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érons une fonction f continue sur l ’intervalle [a,b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ageons l ’intervalle [a,b] en n intervalles partiels consécutifs de longueu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i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a borne inférieure de f sur le i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è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le (càd la plus petite valeur de f(x)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i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a borne supérieure de f sur le i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è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le (càd la plus grande valeur de f(x)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ér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la somme s des aires des rectangles de ba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t de hauteur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la somme S des aires des rectangles de ba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t de hauteur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peut démontrer que, lorsque n tend  vers l ’infini, de telle manière qu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d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 zéro , les limites de s et de S existent et sont égales. Cette limite commune est alors appelée « intégrale définie de a à b de la fonction  f » et est l ’aire de la surface plane comprise entre la courbe: y=f(x), l ’axe OX et les droites:x=a et x=b. On 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 rot="10800000">
                <a:off x="1371600" y="5486400"/>
                <a:ext cx="64771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endshow"/>
          </p:cNvPr>
          <p:cNvSpPr/>
          <p:nvPr/>
        </p:nvSpPr>
        <p:spPr>
          <a:xfrm>
            <a:off x="914400" y="45720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PPHOT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ise en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demande d ’estimer l ’aire de la surface plane (hachurée) limitée par l ’arc de la parabole               P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y = -0.5x² + 2x sur [0,2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I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54320" cy="29988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7010280" y="380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endshow"/>
          </p:cNvPr>
          <p:cNvSpPr/>
          <p:nvPr/>
        </p:nvSpPr>
        <p:spPr>
          <a:xfrm>
            <a:off x="5562720" y="5410080"/>
            <a:ext cx="1523880" cy="60984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mière métho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artage [0,2] en 4 intervalles de longueur 0.5 et on construit les rectangles hachur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mme des aires de ces rectangles est une approximation par défaut de l ’aire cherch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CI2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7010280" y="380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endshow"/>
          </p:cNvPr>
          <p:cNvSpPr/>
          <p:nvPr/>
        </p:nvSpPr>
        <p:spPr>
          <a:xfrm>
            <a:off x="5486400" y="5410080"/>
            <a:ext cx="1523880" cy="60984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200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premier rectangle est 0.5f(0.5) = 0.4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second est 0.5f(1) = 0.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e du troisième vaut 0.5f(1.5) = 0.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ur somme est donc 2.1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CI2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65480" cy="29988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010280" y="380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endshow"/>
          </p:cNvPr>
          <p:cNvSpPr/>
          <p:nvPr/>
        </p:nvSpPr>
        <p:spPr>
          <a:xfrm>
            <a:off x="5638680" y="5486400"/>
            <a:ext cx="1524240" cy="609480"/>
          </a:xfrm>
          <a:custGeom>
            <a:avLst/>
            <a:gdLst>
              <a:gd name="textAreaLeft" fmla="*/ 39240 w 1524240"/>
              <a:gd name="textAreaRight" fmla="*/ 1485000 w 15242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élioration de la préci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partageant [0,2] en 8 intervalles de longueur 0.25 ,on obtient une meilleure estimation de l ’aire cherch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rouve ainsi que la somme des aires des 7 rectangles vaut 2.406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CI4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65480" cy="29988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uxième métho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eut obtenir une approximation par excès de la surface cherchée en construisant les rectangles de la façon suiv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CI3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premier rectangle est 0.5f(0.5) = 0.4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second est 0.5f(1) = 0.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e du troisième vaut 0.5f(1.5) = 0.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quatrième a pour aire:0.5f(2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ur somme est donc 3.1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CI3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éliorons la préci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CI5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partageant [0,2] en 8 intervalles de longueur 0.25 ,on obtient une meilleure estimation de l ’aire cherch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rouve ainsi que la somme des aires des 8 rectangles vaut 2.906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isième métho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eut aussi construire des rectangles de longueur 0.5 et de hauteur f ( c ) où c est le milieu de chaque intervalle partageant [0,2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I6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0T14:20:12Z</dcterms:created>
  <dc:creator>Waroux Jean</dc:creator>
  <dc:description/>
  <dc:language>en-US</dc:language>
  <cp:lastModifiedBy>Waroux Jean</cp:lastModifiedBy>
  <dcterms:modified xsi:type="dcterms:W3CDTF">1998-04-26T06:29:34Z</dcterms:modified>
  <cp:revision>23</cp:revision>
  <dc:subject/>
  <dc:title>Intégrale définie d ’une fonction continue.</dc:title>
</cp:coreProperties>
</file>