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057-89CC-4B8F-BD29-5A4446AC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17D-74A6-42CC-BB73-1ED93EED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852-FFB4-4107-AF7A-D7A1ED25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8FB-D6AD-4C4D-916E-524AD5C7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0E4-24D4-4655-A48A-4151E6A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FAC-8A2E-47BA-AE4E-B2BFDF9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097E-D7C4-4D82-AF1F-5C87AA8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63A6-52B3-4CC7-9815-1F02BCC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AC7A-81DD-4874-B68D-45D19285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21F7-E472-4CD2-8CD4-C33DDAB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5254-E69B-4398-96B7-BE0579A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60A-3266-456D-9FD6-3A34D93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ECA-8FF0-473C-9E70-7C0847A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275-FACA-4C86-80D1-92CDEBB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B4F9-D97E-4121-B52A-A870B8B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2A5-5F4E-4CBF-9F50-E48099AC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6DA9-36AA-4B84-B12B-7A99B999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771-A6F9-4424-951C-9B79E89A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5E7-584F-4644-A603-933754D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216-E3DD-4399-ACA5-E77D292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465-700F-4004-A4F7-026B750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577-6DEC-48D0-BA34-87FF72C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990-A592-4B4B-A99A-64DF123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F11-B316-450C-97B2-BC337CB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0C06-545B-4146-9FC6-6D8A3D53F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E1B5-2101-4F7B-91F1-27B0B6BED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MBRE DERIVE D ’UNE FONCTION EN UN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AROUX J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ici la représentation graphique C de la fonction f(x)=x</a:t>
            </a:r>
            <a:r>
              <a:rPr b="0" lang="fr-FR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/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voudrait trouver l ’équation cartésienne de la tangente T à C au point a d ’abscisse 2 (et d ’ordonnée f(2)=1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erivé1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ons d ’une séc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oit m un second point de C ayant pour abscisse 2+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 ’ordonnée de m est : f(2+h) = (2+h)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=1+h+h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Derivé2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162920" y="685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sécante 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17800" y="2104920"/>
                <a:ext cx="5411880" cy="34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ulai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gal</m:t>
                        </m:r>
                        <m:r>
                          <m:t xml:space="preserve"> </m:t>
                        </m:r>
                        <m:r>
                          <m:t xml:space="preserve">à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/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équ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rtésien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238880" y="9907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sécante à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e h tend vers zéro, le point m se rapproche du point a et la sécante am devient la tangente T à C en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quez sur la figure ci-contr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14800" cy="36259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5335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isons tendre h   vers 0 dans l ’équation de la sécante am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trouve ainsi l ’équation de la tangente 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1905120"/>
                <a:ext cx="502920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38480" y="4267080"/>
                <a:ext cx="3810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1T06:59:20Z</dcterms:created>
  <dc:creator>Waroux Jean</dc:creator>
  <dc:description/>
  <dc:language>en-US</dc:language>
  <cp:lastModifiedBy>Waroux Jean</cp:lastModifiedBy>
  <dcterms:modified xsi:type="dcterms:W3CDTF">2001-02-23T11:01:57Z</dcterms:modified>
  <cp:revision>13</cp:revision>
  <dc:subject/>
  <dc:title>NOMBRE DERIVE D ’UNE FONCTION EN UN POINT</dc:title>
</cp:coreProperties>
</file>