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APPPHOTO.WAV" ContentType="audio/x-wav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D471-7807-40B8-B18B-D518F2CF6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DA35-3E3B-487E-9534-7478BC72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E83D-7929-4F3D-A219-ED5483813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1D25-1F24-40BA-B0C4-0851E513B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F281-FFB5-4A6B-80A6-89B1AA968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D255-ADB3-49AD-A82E-9BA03006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803EF-8FB6-4820-BDC4-88C477FB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A848-867C-4605-B398-4B8E744B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B2F4-8045-4CD8-9637-B7DF3604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1140-20D9-471E-840F-535A5351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45B1-AD38-4AFC-97D2-68AFCE31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4A35-C366-4FF8-B776-F7A4E9A2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37F3-A9B8-40FF-8069-358B4AED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424B6-A52E-4EFF-A912-0E01F7C8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5D65-F110-46C6-A59F-A473C088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38B8-2FA7-4003-9876-C54F4C5DF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58C5-FA75-423E-94AF-D01BD586B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3798-478B-4014-801B-60D590CD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0A0D-4505-45AE-9D5E-5C29BF43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E1F8-9EC8-4F6C-89E6-FB8A4950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0BFD-3814-424E-93D4-A1694F3A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38E9-CD38-401C-9CDD-5537500A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B7DA-463B-42A6-BFDE-CEFCDF72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5360-D7B4-43D4-9920-C2D5CACE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D07B-9655-42C7-ACE0-B15D6AA240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24F6-59DC-4303-80A8-86F6631D19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PHOTO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APPPHOTO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audio" Target="../media/APPPHOTO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PHOTO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audio" Target="../media/APPPHOTO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PHOTO.WAV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OMBRE DERIVE D ’UNE FONCTION EN UN 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WAROUX J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6781680" y="60948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3794"/>
                </a:moveTo>
                <a:lnTo>
                  <a:pt x="33994" y="10800"/>
                </a:lnTo>
                <a:lnTo>
                  <a:pt x="19981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APPPHOTO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ise en sit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Voici la représentation graphique C de la fonction f(x)=x</a:t>
            </a:r>
            <a:r>
              <a:rPr b="0" lang="fr-FR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/ 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On voudrait trouver l ’équation cartésienne de la tangente T à C au point a d ’abscisse 2 (et d ’ordonnée f(2)=1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Derivé1" descr=""/>
          <p:cNvPicPr/>
          <p:nvPr/>
        </p:nvPicPr>
        <p:blipFill>
          <a:blip r:embed="rId2"/>
          <a:stretch/>
        </p:blipFill>
        <p:spPr>
          <a:xfrm>
            <a:off x="4800600" y="2400480"/>
            <a:ext cx="3809880" cy="2817720"/>
          </a:xfrm>
          <a:prstGeom prst="rect">
            <a:avLst/>
          </a:prstGeom>
          <a:ln w="0">
            <a:noFill/>
          </a:ln>
        </p:spPr>
      </p:pic>
      <p:sp>
        <p:nvSpPr>
          <p:cNvPr id="114" name="">
            <a:hlinkClick r:id="" action="ppaction://hlinkshowjump?jump=nextslide"/>
          </p:cNvPr>
          <p:cNvSpPr/>
          <p:nvPr/>
        </p:nvSpPr>
        <p:spPr>
          <a:xfrm>
            <a:off x="6781680" y="60948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3794"/>
                </a:moveTo>
                <a:lnTo>
                  <a:pt x="33994" y="10800"/>
                </a:lnTo>
                <a:lnTo>
                  <a:pt x="19981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9144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APPPHOTO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artons d ’une sécan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Soit m un second point de C ayant pour abscisse 2+h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 ’ordonnée de m est : f(2+h) = (2+h)</a:t>
            </a:r>
            <a:r>
              <a:rPr b="0" lang="fr-FR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/4=1+h+h</a:t>
            </a:r>
            <a:r>
              <a:rPr b="0" lang="fr-FR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/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Derivé2" descr=""/>
          <p:cNvPicPr/>
          <p:nvPr/>
        </p:nvPicPr>
        <p:blipFill>
          <a:blip r:embed="rId2"/>
          <a:stretch/>
        </p:blipFill>
        <p:spPr>
          <a:xfrm>
            <a:off x="4800600" y="2400480"/>
            <a:ext cx="3809880" cy="2817720"/>
          </a:xfrm>
          <a:prstGeom prst="rect">
            <a:avLst/>
          </a:prstGeom>
          <a:ln w="0">
            <a:noFill/>
          </a:ln>
        </p:spPr>
      </p:pic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7162920" y="68580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3794"/>
                </a:moveTo>
                <a:lnTo>
                  <a:pt x="33994" y="10800"/>
                </a:lnTo>
                <a:lnTo>
                  <a:pt x="19981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previousslide"/>
          </p:cNvPr>
          <p:cNvSpPr/>
          <p:nvPr/>
        </p:nvSpPr>
        <p:spPr>
          <a:xfrm>
            <a:off x="9144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APPPHOTO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Équation cartésienne de la sécante a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017800" y="2104920"/>
                <a:ext cx="5411880" cy="340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efficien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gulair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m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s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égal</m:t>
                        </m:r>
                        <m:r>
                          <m:t xml:space="preserve"> </m:t>
                        </m:r>
                        <m:r>
                          <m:t xml:space="preserve">à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/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équatio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artésienn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m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st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7238880" y="99072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3794"/>
                </a:moveTo>
                <a:lnTo>
                  <a:pt x="33994" y="10800"/>
                </a:lnTo>
                <a:lnTo>
                  <a:pt x="19981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previousslide"/>
          </p:cNvPr>
          <p:cNvSpPr/>
          <p:nvPr/>
        </p:nvSpPr>
        <p:spPr>
          <a:xfrm>
            <a:off x="1295280" y="9144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APPPHOTO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 la sécante à la tangen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orsque h tend vers zéro, le point m se rapproche du point a et la sécante am devient la tangente T à C en 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liquez sur la figure ci-contre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572000" y="2057400"/>
            <a:ext cx="4114800" cy="3625920"/>
          </a:xfrm>
          <a:prstGeom prst="rect">
            <a:avLst/>
          </a:prstGeom>
          <a:ln w="0">
            <a:noFill/>
          </a:ln>
        </p:spPr>
      </p:pic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8001000" y="38088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3794"/>
                </a:moveTo>
                <a:lnTo>
                  <a:pt x="33994" y="10800"/>
                </a:lnTo>
                <a:lnTo>
                  <a:pt x="19981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53352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APPPHOTO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Équation cartésienne de la tangen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Faisons tendre h   vers 0 dans l ’équation de la sécante am 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On trouve ainsi l ’équation de la tangente 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733920" y="1905120"/>
                <a:ext cx="5029200" cy="15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038480" y="4267080"/>
                <a:ext cx="381024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">
            <a:hlinkClick r:id="" action="ppaction://hlinkshowjump?jump=previousslide"/>
          </p:cNvPr>
          <p:cNvSpPr/>
          <p:nvPr/>
        </p:nvSpPr>
        <p:spPr>
          <a:xfrm>
            <a:off x="1295280" y="9144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APPPHOTO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1T06:59:20Z</dcterms:created>
  <dc:creator>Waroux Jean</dc:creator>
  <dc:description/>
  <dc:language>en-US</dc:language>
  <cp:lastModifiedBy>Waroux Jean</cp:lastModifiedBy>
  <dcterms:modified xsi:type="dcterms:W3CDTF">2001-02-23T11:01:57Z</dcterms:modified>
  <cp:revision>13</cp:revision>
  <dc:subject/>
  <dc:title>NOMBRE DERIVE D ’UNE FONCTION EN UN POINT</dc:title>
</cp:coreProperties>
</file>